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39600"/>
            <a:ext cx="45720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naissance and 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4520" y="1123920"/>
            <a:ext cx="8454960" cy="422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8160" y="1606680"/>
            <a:ext cx="536760" cy="38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143000"/>
            <a:ext cx="8229600" cy="14720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1500s life in Italy seemed insecure, prec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 no longer served as source of stability, pe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of humanism developed from Petrarch’s ideas; focus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s worldly rather th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2743200"/>
            <a:ext cx="4038120" cy="3123360"/>
            <a:chOff x="457200" y="2743200"/>
            <a:chExt cx="4038120" cy="3123360"/>
          </a:xfrm>
        </p:grpSpPr>
        <p:sp>
          <p:nvSpPr>
            <p:cNvPr id="93" name=""/>
            <p:cNvSpPr/>
            <p:nvPr/>
          </p:nvSpPr>
          <p:spPr>
            <a:xfrm>
              <a:off x="457200" y="3289320"/>
              <a:ext cx="4038120" cy="2577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umanists argued that individual achievement, education could be fully expressed only if people used talents, abilities in service of c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2743200"/>
              <a:ext cx="4038120" cy="5461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48320" y="2743200"/>
            <a:ext cx="4038120" cy="3123360"/>
            <a:chOff x="4648320" y="2743200"/>
            <a:chExt cx="4038120" cy="3123360"/>
          </a:xfrm>
        </p:grpSpPr>
        <p:sp>
          <p:nvSpPr>
            <p:cNvPr id="96" name=""/>
            <p:cNvSpPr/>
            <p:nvPr/>
          </p:nvSpPr>
          <p:spPr>
            <a:xfrm>
              <a:off x="4648320" y="3289320"/>
              <a:ext cx="4038120" cy="25772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deal Renaissance man came to be “universal man,” accomplished in classics, but also man of action, who could respond to all situatio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8320" y="2743200"/>
              <a:ext cx="4038120" cy="5461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enaissance 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lar Wri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to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n diplom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dassare Castigl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ote book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our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how perfect Renaissance gentleman, gentlewoman should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includes fictional conversation between duke, g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to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, statesm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chiavel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wrote influential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s with violent politics influenced opinions on how governments should ru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r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tiglione’s 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iglione gave nobles new rules for refined behavior in humanist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of serious, as well of amusing subjects; know Latin, Gr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well-acquainted with poetry, history; be able to write prose, po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Renaissance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av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avellian advice seemed to encourage harsh treatment of citizens, riv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men as “ungrateful, fickle, liars, and deceiver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s rulers to separate morals from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ruthlessness more useful than ide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8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r must do whatever necessary to maintain political power, even if cru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avelli’s theory that “the end justifies the means” deviated from accepted views of correc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that state an entity in itself, separate from its ruler, became foundation for later political philosop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ists searched archives, Arab translations for classical 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ed wealth of scientif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soon became important avenue of 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’s teachings about world were challenged, particularly that Earth center of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f Renaissance on human sciences, history, politics, g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deas about natural world began to be explored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,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holas Copernicus said Sun was center of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ileo Galilei arrested by church officials for saying Earth orbited 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ce of the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57200" y="1146240"/>
            <a:ext cx="6399360" cy="41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928800"/>
            <a:ext cx="8229600" cy="25146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important new ideas of the Renaiss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8196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piration from the ancient Greeks and Romans; humanism; secular focus; new theories in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5241960"/>
            <a:ext cx="8229600" cy="7038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issance artists wanted to paint the natural world as realistical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143000"/>
            <a:ext cx="8229600" cy="11037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ts a reflection of the new humanist spi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val arti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ized and symbolic re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issance artists depicted what they observed in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2362320"/>
            <a:ext cx="4038120" cy="2742840"/>
            <a:chOff x="457200" y="2362320"/>
            <a:chExt cx="4038120" cy="2742840"/>
          </a:xfrm>
        </p:grpSpPr>
        <p:sp>
          <p:nvSpPr>
            <p:cNvPr id="119" name=""/>
            <p:cNvSpPr/>
            <p:nvPr/>
          </p:nvSpPr>
          <p:spPr>
            <a:xfrm>
              <a:off x="457200" y="2841840"/>
              <a:ext cx="4038120" cy="2263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dieval times, anonymous artists who worked for church created 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naissance artists worked for whoever offered them highest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yers of art, patrons, might be wealthy individuals, city governments, or chu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2362320"/>
              <a:ext cx="4038120" cy="4795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atrons of the A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issance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648320" y="2362320"/>
            <a:ext cx="4038120" cy="2742840"/>
            <a:chOff x="4648320" y="2362320"/>
            <a:chExt cx="4038120" cy="2742840"/>
          </a:xfrm>
        </p:grpSpPr>
        <p:sp>
          <p:nvSpPr>
            <p:cNvPr id="123" name=""/>
            <p:cNvSpPr/>
            <p:nvPr/>
          </p:nvSpPr>
          <p:spPr>
            <a:xfrm>
              <a:off x="4648320" y="2841840"/>
              <a:ext cx="4038120" cy="2263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althy individuals competed, displaying wealth, modernity through purchase of art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rence,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renzo de Medic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upported most talented arti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lan, ruling Sforza family benefactors of artists, 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8320" y="2362320"/>
              <a:ext cx="4038120" cy="4795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etition Among Patr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660920" y="1143000"/>
            <a:ext cx="4025520" cy="4800240"/>
            <a:chOff x="4660920" y="1143000"/>
            <a:chExt cx="4025520" cy="4800240"/>
          </a:xfrm>
        </p:grpSpPr>
        <p:sp>
          <p:nvSpPr>
            <p:cNvPr id="126" name=""/>
            <p:cNvSpPr/>
            <p:nvPr/>
          </p:nvSpPr>
          <p:spPr>
            <a:xfrm>
              <a:off x="4660920" y="1659600"/>
              <a:ext cx="4025520" cy="42836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igious paintings focused on pers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ist interest in classical learning, human n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ilding design reflected humanist reverence for Greek, Roman 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assical architecture favo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0920" y="1143000"/>
              <a:ext cx="4025520" cy="516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assical 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200" y="1143000"/>
            <a:ext cx="4025520" cy="4800240"/>
            <a:chOff x="457200" y="1143000"/>
            <a:chExt cx="4025520" cy="4800240"/>
          </a:xfrm>
        </p:grpSpPr>
        <p:sp>
          <p:nvSpPr>
            <p:cNvPr id="129" name=""/>
            <p:cNvSpPr/>
            <p:nvPr/>
          </p:nvSpPr>
          <p:spPr>
            <a:xfrm>
              <a:off x="457200" y="1659600"/>
              <a:ext cx="4025520" cy="42836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died perspective, represented three-dimensional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erimented with using color to portray shapes, text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ject matter changed; artists began to paint, sculpt scenes from Greek, Roman my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143000"/>
              <a:ext cx="4025520" cy="516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rtists 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yles and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143000"/>
            <a:ext cx="8229600" cy="15998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talented in all f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paintings are still studied and adm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out ideas, filling 20,000 page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interests, enthusiasm bound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2819520"/>
            <a:ext cx="4038120" cy="3047400"/>
            <a:chOff x="457200" y="2819520"/>
            <a:chExt cx="4038120" cy="3047400"/>
          </a:xfrm>
        </p:grpSpPr>
        <p:sp>
          <p:nvSpPr>
            <p:cNvPr id="134" name=""/>
            <p:cNvSpPr/>
            <p:nvPr/>
          </p:nvSpPr>
          <p:spPr>
            <a:xfrm>
              <a:off x="457200" y="3352320"/>
              <a:ext cx="4038120" cy="25146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died anatom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ge 24, won fame wit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iet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sculpture of Jesus’ mother Mary holding son’s dead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ulpture communicates grief, love, acceptance, immort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2819520"/>
              <a:ext cx="4038120" cy="5328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ichelang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48320" y="2819520"/>
            <a:ext cx="4038120" cy="3047400"/>
            <a:chOff x="4648320" y="2819520"/>
            <a:chExt cx="4038120" cy="3047400"/>
          </a:xfrm>
        </p:grpSpPr>
        <p:sp>
          <p:nvSpPr>
            <p:cNvPr id="137" name=""/>
            <p:cNvSpPr/>
            <p:nvPr/>
          </p:nvSpPr>
          <p:spPr>
            <a:xfrm>
              <a:off x="4648320" y="3352320"/>
              <a:ext cx="4038120" cy="2514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ble statue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famous painting, artwork on ceiling of Sistine Chap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enes from Old Testament considered one of greatest achievements in art 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819520"/>
              <a:ext cx="4038120" cy="5328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ulpture, Pain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41" name="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naissance architecture reached height with work of Donato Bram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d already achieved fame when chosen architect of R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ign for St. Peter’s Basilica influenced appearance of many smaller church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raman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44" name="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ffaello Sanzio, became known a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pha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nowned painter, accomplished archit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famous work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he School of Athen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fresco—painting made on fresh, moist pl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 well known for many paintings of the Madonna, mother of Jes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apha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0053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s Map: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ginning of the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issanc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Facts: Causes of the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issance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s of History: Two Renaissance 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Italian Re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97320" y="2441520"/>
            <a:ext cx="600120" cy="1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5920" y="963720"/>
            <a:ext cx="7066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928800"/>
            <a:ext cx="8229600" cy="19638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deal of Renaissance 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262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turing human personality, realism, human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28960" y="641520"/>
            <a:ext cx="5236920" cy="530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7760" y="74124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to play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sten to Hist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73240" y="12654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1040" y="205416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below to connect to the Interactive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73200" y="2762280"/>
            <a:ext cx="600120" cy="1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67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hanges in society and in cities stimulated the beginning of the Renaissan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deas formed the foundation of the Italian Renaissan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ontributions did artists make to the Renaissan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Italy the growth of wealthy trading cities and new ways of thinking helped lead to a rebirth of the arts and learning. This era became known as the Renaiss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talian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elangelo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nting was different from the art of the Middle Ages, and only one way in which European society began changing after the 1300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60" name="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300, Black Death, starvation, warfare had overtaken Europ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atastrophic events, enormous loss of life may have led to changes of the 1300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crease in population led to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crease in food produ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cline in food pric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ore money to spen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pecialization in produc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nges in Soc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63" name="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Urban areas specialized, particularly in Ital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taly divided into several large city-states in north, various kingdoms, Papal States sout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atholic Church, nobles, merchants, artisans dominated society in city-sta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71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ny sought to display new wealth with knowledge of a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Rise of City-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eginning of the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251160"/>
            <a:ext cx="8229600" cy="272736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an, Flo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an, west of Venice, based economy on agriculture, silk, wea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, to south, famous for banking, cl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archs appealed to Florentine bankers for money to fund w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ts refined raw wool into fine cl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ers, merchants created city to rival any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12880"/>
            <a:ext cx="8229600" cy="2279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ccess to sea, Venice built economy, reputation on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long history of trading with other ports on Mediterranean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pbuilding prospered, sailors traveled to Near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y Venetian merchants built unique city, “work of 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957240"/>
            <a:ext cx="8229600" cy="24462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society and cities change in the 1300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74796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lization in agriculture increased, resulting in more trade; urban areas became centers of commerce; merchants and artisans became important; some cities became displays of w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1143000"/>
            <a:ext cx="8076960" cy="10087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economy and society changed, new ideas began to appear. This period of interest and developments in art, literature, science and learning is known a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aiss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rench for “rebirth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3520" y="2209680"/>
            <a:ext cx="2590560" cy="3733560"/>
            <a:chOff x="533520" y="2209680"/>
            <a:chExt cx="2590560" cy="3733560"/>
          </a:xfrm>
        </p:grpSpPr>
        <p:sp>
          <p:nvSpPr>
            <p:cNvPr id="75" name=""/>
            <p:cNvSpPr/>
            <p:nvPr/>
          </p:nvSpPr>
          <p:spPr>
            <a:xfrm>
              <a:off x="5335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netian ships carried goods for trade and Greek scholars seeking refu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holars brought ancient works thought to be l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nspiration from the Anc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276720" y="2209680"/>
            <a:ext cx="2590560" cy="3733560"/>
            <a:chOff x="3276720" y="2209680"/>
            <a:chExt cx="2590560" cy="3733560"/>
          </a:xfrm>
        </p:grpSpPr>
        <p:sp>
          <p:nvSpPr>
            <p:cNvPr id="78" name=""/>
            <p:cNvSpPr/>
            <p:nvPr/>
          </p:nvSpPr>
          <p:spPr>
            <a:xfrm>
              <a:off x="3276720" y="2611440"/>
              <a:ext cx="2590560" cy="33318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alians who could read looked for more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 Arabic translations of original tex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arched libraries, found lost tex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6720" y="2209680"/>
              <a:ext cx="2590560" cy="4017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w World of Ide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19920" y="2209680"/>
            <a:ext cx="2590560" cy="3733560"/>
            <a:chOff x="6019920" y="2209680"/>
            <a:chExt cx="2590560" cy="3733560"/>
          </a:xfrm>
        </p:grpSpPr>
        <p:sp>
          <p:nvSpPr>
            <p:cNvPr id="81" name=""/>
            <p:cNvSpPr/>
            <p:nvPr/>
          </p:nvSpPr>
          <p:spPr>
            <a:xfrm>
              <a:off x="60199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 they read, began to think about philosophy, art, science in different w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gan to believe in human capacity to create, ach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9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ifferent View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issanc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85" name="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oots traced to work of Dante; work contained glimpses of what would become focus on human na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storians believe Renaissance began with two humanists who lived after Dante—Giovanni Boccaccio, Francesco Petrarc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oth wrote literature in everyday language not Lati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vances were made in medicine, as well as astronom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oo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88" name="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terest in ancient Greek, Roman cul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haracteristics of good educ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cholastic education gave way to classics: rhetoric, grammar, poetry, history, Latin, Gree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ubjects came to be known as humanities, movement they inspired known as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umanis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umanists emphasized individual accomplish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uman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乩歫椠䱡畳椀㸲㻸ꔿ㌋䬮ꍰ䞮誀圇짗꾬钒붤鏊꣊㥊揤鞁</cp:lastModifiedBy>
  <cp:lastPrinted>2005-02-01T16:21:45Z</cp:lastPrinted>
  <dcterms:modified xsi:type="dcterms:W3CDTF">2007-01-17T10:46:08Z</dcterms:modified>
  <cp:revision>248</cp:revision>
  <dc:subject/>
  <dc:title>PowerPoint Presentation</dc:title>
</cp:coreProperties>
</file>